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157-D965-4459-B7FD-E2CBBD2E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D12-5065-45CF-98C9-E34A2BCA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C167C-6308-4D4D-8F98-240D7BF9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C957D-E768-4A54-9212-52FE4171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2834B-EB6D-4C10-8C26-8F56B0F6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967F4-1204-44AA-8198-B95B7BAC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23277-BE9F-4926-BB05-6F8C6DE1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0EA5C-7FFE-44BF-9178-0E01F309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7F306-30F8-4857-8499-95CF427A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69F86-49AD-4476-AE20-ADEDE412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6BA90-43FC-4C07-A588-A8271A2E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8D91C-8AC2-4D3C-8E2A-AF74288B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A05-CA11-4B8F-AC12-7EB1E09C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EBBAE-E1E9-463E-9212-0E713F34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DCB0B-2256-4CEB-AF41-B3026853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9DBC3-7297-4BDD-904C-41ACFBAA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41012-7A3D-4754-921B-2281181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3D772-FFE1-4E21-9212-1335700F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6D575-3653-40D8-9E07-DACDB034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FDA77-F1DB-405E-B4DD-C4C41AF1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E69B4-2440-4EE8-9128-D58112BE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67113-1C6D-4B81-A015-3F93F28D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46B45-D715-4077-A4B9-220538A1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F27-A3F5-45C3-AEBF-7E47B2F3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B5EE8-8708-43E7-8447-CB9944DB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9CCE8-B6A1-4D77-9D9D-82CBC158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3861D-2286-4A8E-8777-B65DD6F9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26FE2-D879-46DC-A80B-87AD3F9D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C2162-141F-4405-A261-28E8672B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30F04-708C-4A1F-B6E9-3DD4489F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12D71-30CC-4172-BD83-E98BF56F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DE90E-F6EE-47D4-A81A-14A411EB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7E469-760A-42BD-8DFB-6E07221C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4EA39-AA91-4C0D-8EBB-075744BC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289B-6F7B-4975-8BFF-9799CEDD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CC102-FF72-43E4-84BD-D8A3A7DE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F8A2F-A051-4DD5-9BB3-8949BF35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2F1A9-8C70-4EFC-981B-FF711758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EDC04-F942-4FD3-8EDA-FBDA35C5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BBDB1-71A1-4DCD-9B3C-1CA972E7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47A39-80BB-40ED-969D-19C06B4E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EA64E-4C2B-4993-BCA8-8C253738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8B7CC-367E-4F91-94F7-45C1FF5C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917C6-7C3C-4E80-8EB1-0CDD198F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03A7C-88B5-4DCA-8C56-AFFDE400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D940-3E14-42B0-9DC2-CA6385AA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B7417-840E-4198-BE63-C3BF8141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29C5B-5141-450E-BA1D-0EF6EDE4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5A280-EF84-44A8-B641-6B229AEF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42AD7-A1EA-4348-8119-456F8AB2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64B0A-7080-450C-BC8E-5C399100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3894-AB74-4DB0-AAC4-2110B942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5967-5661-4032-9A7D-ABF23DB7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1E61-1BDE-4C2D-94DD-2186AB3F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C9A1-D3F9-41E7-AAF9-4B1F68A5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6585-84FC-4C2D-A8F7-AB1A348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D15-6116-44F2-8BF6-A8C1DA73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08B2-A6DD-4990-8930-378AEAD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6A07-F3B9-46C3-B36D-83148E6F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6412-6ED0-4141-8B5E-A26EAD99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2AC9-0771-4941-96E3-6E56E1FD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CBB1-0C0F-4A73-BD3B-C09700FB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E5C6-01FA-4D59-9827-2153454E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7070-C21D-43A6-98A6-26918EFD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5E60-8CF5-40A1-A2C7-C16036EE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7E1AA-EB3D-48CD-A1D5-8E610258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F654-5632-48BB-89D1-E0D90F7C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5D2-8A6E-41F6-9A4D-5F0C188F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A2E6-CB21-4547-9BFB-28508B85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A505-FA6F-4A43-A346-848B3F1E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1546-02DB-4E5D-90BB-DAF6ABA4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4E33-D2A5-4156-A30F-2C0260B5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33BF2-697D-43F7-B5BD-BDFBC8B1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5C11-D1C8-47BB-882A-27B9BB8A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4D5D-1A9B-489C-9E22-5BBFC063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05DE8-9392-4B59-9764-B019DADB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5EBF5-603F-4616-8AB3-0182BBD9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6C72-E61C-466C-91A4-ED6FA356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31E-DA69-45FE-A46B-E9086379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2010-84AC-4CAD-B8F6-3329092C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8F799-0347-4524-9496-C91FD169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DC85-70DA-498F-BEBD-7CDF627F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A60C3-E635-41EF-B1C7-D19E79F2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7D67-B8D1-47F4-B519-8226DFB7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9B9B2-E4A1-4062-8A31-B359A605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D52CB-878F-4258-A223-700E0D64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122C-908D-4183-876C-58A37093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817C0-55B0-4E40-9577-DA73B5DD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F545E-BE82-4E11-AB51-784B55F9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AE2-A601-4617-A68B-072943E1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1F788-D37E-4A48-B580-269005A4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55826-5AA2-43AD-92BB-B2C56A50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41BBF-C23D-4868-A442-8C74BA61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CC4D-8674-44B5-8E8B-E463091D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D6B71-3438-49BD-A8C1-FCECA08F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F11F0-0314-4ED5-ACE1-D848431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B390A-0B5E-4B11-9CB8-6E25D634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2DF4F-1998-4071-A192-FC1CED5D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A66FC-786A-4223-AC39-1ED9E655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0D20-93F1-49A8-938F-D3A1FEFE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DF2-08CF-47B8-B6BC-3E44C573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62373-EB92-4E13-B780-84A22772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1EDBA-94C9-4F21-854F-E53DE86F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4239A-E5A3-4859-AB4F-8BA6CCA7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44794-90F0-4300-9A7F-3E753DF9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D3314-C212-4E6E-A5B3-C69CB455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EEB64-5485-4AE4-9BA9-DA497E38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C1BB1-856D-4760-8A4E-55A3CE72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BEF76-80A1-47D2-8AA0-5A25BA43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C6210-749E-4E85-A541-F992BA75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4A603-49E7-46B8-9AF0-1BB68D29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587-C2B5-462F-8369-FD0CA375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BB96-C268-4B37-BB0D-6BD88595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C1442-9CBB-4058-BBDD-E1ADB07D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5C6A1-6487-46A9-9DD1-0EA1E6FD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3726F-0A74-4B9F-8B54-D106A0F4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CFD16-2001-4DA1-B057-C86CACD6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BFD86-6070-473F-BA6F-C5C42D38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616AB-76D1-4034-A645-17B21DF2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075C9-CD4E-4A34-923F-CF0A65FB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DE2AC-CAAF-432B-9897-3339A1C5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AAD4A-4BA8-40B9-9114-A6BE7ABB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E0B-E2B8-44B4-9DA3-E434FEA0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81F69-70ED-416A-BF16-A01B2757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B10E7-9404-4131-91E7-7BF65AE8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8EFFB-BCB3-4BB5-89C9-2F5B9D4B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C5424-0805-44D3-B800-A8854617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B691B-4F52-4A39-BBE4-D63F198D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F0AF2-BB9C-4D51-95D9-0723D64C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97391-B408-4FE1-B0E2-3BCF4626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E6D85-4AE4-4986-9CB6-F543D224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A047B-30D8-485C-954B-8FF61E65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BC35A-488A-4751-BB27-1D2FB51A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41A-F8B0-4003-A1BB-FF287A29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99436-99D8-4F1E-922F-C58D50E6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2FA22-25B8-47DA-95F1-87AB1E76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3204B-92DA-40B6-B9A5-FF8BB81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87D1D-5381-450E-BA4D-ED5F6DF9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35FD0-39AA-4373-A9D7-78C8C9FE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60E31-5D59-4581-A140-E4BE716E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38590-9F78-4053-AE1E-1F66BCEE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C93F4-53EA-43D0-8566-FF6EBB7B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35385-C853-43F3-9CCB-44557603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E00FD-A98B-496C-87C2-CAA188A6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6EEF-E3E9-4008-8FE3-0CC5B422EAD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5BC9-348C-49C2-9C54-310A6D0DB2A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6D16-BD26-4169-9516-F1DF1FE8F85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99AC-9E06-4FAD-BCF2-A53D5411F0C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0034-520F-46B6-AD37-747D42FCE51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1B41-2C27-48FC-BC6D-B8BD747ED7D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1635-CF72-4D65-BC79-43EADA72B5A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4701-3F66-4DDD-875D-BA5929429F1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CBCF-A292-4628-BF23-1978854F8BC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AE50-0AE4-44E0-B8FE-9F063C2A663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B24A-7AA4-4CCB-8F35-5134D62F2CF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A592-B52B-4233-9FDE-5C3416691F5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164535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14360" y="100008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8760" y="285840"/>
            <a:ext cx="8501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Правила финансового обеспечения предупредительных мер по сокращению производственного травматизма и профессиональных заболев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Рисунок 5" descr="&amp;Rcy;&amp;ocy;&amp;scy;&amp;tcy;&amp;rcy;&amp;ucy;&amp;dcy; &amp;vcy;&amp;ocy;&amp;scy;&amp;scy;&amp;tcy;&amp;acy;&amp;ncy;&amp;ocy;&amp;vcy;&amp;icy;&amp;lcy; &amp;pcy;&amp;rcy;&amp;acy;&amp;vcy;&amp;acy; &amp;bcy;&amp;ocy;&amp;lcy;&amp;iecy;&amp;iecy; 1000 &amp;rcy;&amp;acy;&amp;bcy;&amp;ocy;&amp;tcy;&amp;ncy;&amp;icy;&amp;kcy;&amp;ocy;&amp;vcy; &amp;gcy;&amp;iecy;&amp;ocy;&amp;fcy;&amp;icy;&amp;zcy;&amp;icy;&amp;chcy;&amp;iecy;&amp;scy;&amp;kcy;&amp;ocy;&amp;gcy;&amp;ocy; &amp;pcy;&amp;rcy;&amp;iecy;&amp;dcy;&amp;pcy;&amp;rcy;&amp;icy;&amp;yacy;&amp;tcy;&amp;icy;&amp;yacy;"/>
          <p:cNvPicPr/>
          <p:nvPr/>
        </p:nvPicPr>
        <p:blipFill>
          <a:blip r:embed="rId1"/>
          <a:stretch/>
        </p:blipFill>
        <p:spPr>
          <a:xfrm>
            <a:off x="596880" y="2114640"/>
            <a:ext cx="7662960" cy="316368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6"/>
          <p:cNvSpPr/>
          <p:nvPr/>
        </p:nvSpPr>
        <p:spPr>
          <a:xfrm>
            <a:off x="4786200" y="550080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заместитель директора по АХЧ МБВ(С)ОУ В(С)ОШ № 185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Ожогова В.П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СИЗ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и смывающие средств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приобретаемых СИЗ с указанием профессий (должностей) работников, норм выдачи СИЗ со ссылкой на соответствующий пункт типовых норм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СИЗ, приобретаемых с учетом результатов проведения специальной оценки условий труда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закона от 28 декабря 2013 г. N 426-ФЗ "О специальной оценке условий труда" (Собрание законодательства Российской Федерации, 2013, N 52, ст. 6991) порядком, не истек, то с учетом аттестации рабочих мест по условиям труда), с указанием профессий (должностей) работников, норм выдачи СИЗ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632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Территориальный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рган Фонда принимает решение об отказе в финансовом обеспечении предупредительных мер в следующих случаях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сли у страхователя имеются недоимка по уплате страховых взносов, пени и штрафы, не погашенные на день подачи страхователем заявления в территориальный орган Фонда по месту своей регистрац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едставленные документы содержат недостоверную информаци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если предусмотренные бюджетом Фонда средства на финансовое обеспечение предупредительных мер на текущий год полностью распределены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ри представлении страхователем неполного комплекта документ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финансовом обеспечении предупредительных мер по другим основаниям не допускает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тветственность учреждени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ахователь ведет в установленном порядке учет средств, направленных на финансовое обеспечение предупредительных мер в счет уплаты страховых взносов, и ежеквартально представляет в территориальный орган Фонда отчет об их использован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ле завершения запланированных мероприятий страхователь представляет в территориальный орган Фонда документы, подтверждающие произведенные расхо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Спасибо за вним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Нормативно-правовая баз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МИНИСТЕРСТВО ТРУДА И СОЦИАЛЬНОЙ ЗАЩИТЫ РОССИЙСКОЙ ФЕДЕРАЦИИ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КА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т 10 декабря 2012 г. N 580н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(в ред.от 20.02.2014г.)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Б УТВЕРЖДЕНИИ ПРАВИ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ФИНАНСОВОГО ОБЕСПЕЧЕНИЯ ПРЕДУПРЕДИТЕЛЬНЫХ МЕР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 СОКРАЩЕНИЮ ПРОИЗВОДСТВЕННОГО ТРАВМАТИЗМ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ПРОФЕССИОНАЛЬНЫХ ЗАБОЛЕВАНИЙ РАБОТНИКОВ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САНАТОРНО-КУРОРТНОГО ЛЕЧЕНИЯ РАБОТНИКОВ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НЯТЫХ НА РАБОТАХ С ВРЕДНЫМИ И (ИЛИ) ОПАСНЫМИ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ОИЗВОДСТВЕННЫМИ ФАКТОРАМИ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85480"/>
            <a:ext cx="8534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Финансирование мероприят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 СОУ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учение по охране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работникам СИЗ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анаторно-курортное лечени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обязательных периодических медицинских осмотров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аптечек для оказания первой помощи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еспечение лечебно-профилактическим питанием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ликвидация вредных факторов на рабочем мест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 друг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Алгоритм действ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Содержимое 3" descr=""/>
          <p:cNvPicPr/>
          <p:nvPr/>
        </p:nvPicPr>
        <p:blipFill>
          <a:blip r:embed="rId1"/>
          <a:stretch/>
        </p:blipFill>
        <p:spPr>
          <a:xfrm>
            <a:off x="334800" y="1352520"/>
            <a:ext cx="83822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образец заявле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28760" y="150012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 фирменном бланке учрежден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г. Екатеринбург, Чапаева, 23б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у филиала № 1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ГУ - Свердловского регионального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отделения ФСС РФ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Иванченко Ю.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Сведения о страхователе: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Муниципальное  бюджетное вечернее (сменное) общеобразовательное учреждение вечерняя (сменная) общеобразовательная школа № 185 (МБВ(С)ОУ В(С)ОШ  № 185)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Регистрационный номер страхователя:  6611501539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Прошу рассчитать сумму финансового обеспечения предупредительных мер по сокращению производственного травматизма и профессиональных заболеваний в 2015 году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 МБВ(С)ОУ В(С)ОШ № 185                                В.М.Виноградов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«28» февраля 2015 год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Исп.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Уполномоченный по социальному страхованию Ожогова В.П.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тел. 8-908-925-78-16, 245-42-00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Для получения финансового обеспечения предупредительных мер страхователи должны представить в исполнительный орган Фонда пакет документов:</a:t>
            </a:r>
            <a:br>
              <a:rPr sz="18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935000"/>
            <a:ext cx="82580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заявление о финансовом обеспечении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план финансового обеспечения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копия (выписка из) коллективного договора (соглашения по охране труда между работодателем и представительным органом работников) и (или) копия плана мероприятий по улучшению и оздоровлению условий труда в организации, разработанного по результатам аттестации рабочих мест по условиям труд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документы, обосновывающие финансовую необходимость выбранных предупредительных ме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356760"/>
            <a:ext cx="8485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Проведение специальной оценки условий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локального нормативного акта о создании комиссии по проведению специальной оценки условий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гражданско-правового договора с организацией, проводящей специальную оценку условий труда, с указанием количества рабочих мест, в отношении которых проводится специальная оценка условий труда, и стоимости проведения специальной оценки условий труда на указанном количестве рабочих мес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429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реализация</a:t>
            </a:r>
            <a:r>
              <a:rPr b="0" lang="ru-RU" sz="1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</a:t>
            </a:r>
            <a:br>
              <a:rPr sz="1600"/>
            </a:br>
            <a:br>
              <a:rPr sz="1000"/>
            </a:br>
            <a:br>
              <a:rPr sz="1000"/>
            </a:br>
            <a:endParaRPr b="0" lang="en-US" sz="1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, подтверждающего превышение предельно допустимых уровней воздействия вредных и (или) опасных производственных факторов на соответствующих рабочих местах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</a:t>
            </a:r>
            <a:r>
              <a:rPr b="0" lang="ru-RU" sz="15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закона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от 28 декабря 2013 г. N 426-ФЗ "О специальной оценке условий труда" (Собрание законодательства Российской Федерации, 2013, N 52, ст. 6991) порядком, не истек, то представляются копии отчета о проведении аттестации рабочих мест по условиям труда)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 на соответствующих рабочих местах после реализации соответствующих мероприятий и свидетельствующего о снижении класса (подкласса) условий труда на соответствующих рабочих местах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и документов, подтверждающих приобретение организацией соответствующего оборудования и проведение работ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случае включения в план финансового обеспечения предупредительных мер мероприятий, не требующих приобретения оборудования, - копию договора на проведение соответствующих работ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4296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543"/>
                </a:solidFill>
                <a:latin typeface="Georgia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900" spc="-1" strike="noStrike">
                <a:solidFill>
                  <a:srgbClr val="323543"/>
                </a:solidFill>
                <a:latin typeface="Georgia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Обучение по охране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договор на обучение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чёт на оплату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ограммы обучения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уведомление о внесении в реестр Минсоцздравразвития аккредитованных организаций, оказывающих услуги в области охраны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правлении работников на обучение по охране труда с отрывом от производств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писок работников, направляемых на обучение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значении ответственного лица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4-21T04:55:46Z</dcterms:modified>
  <cp:revision>99</cp:revision>
  <dc:subject/>
  <dc:title>проведение аттестации рабочих мест по условиям труда;</dc:title>
</cp:coreProperties>
</file>